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95F-0C2A-4EEB-B125-0C0CA0C4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1D0-B559-444A-815B-D761853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82D-4D3E-47D8-AFD1-182B32FD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1C1-4F14-4AE2-A05D-E5BDBDA0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6BF-FD82-4558-B22F-1EAF7293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3ED-D714-4E6E-82B2-28AA25C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614-6DC2-4EBA-859B-11B1C85D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5BD-C985-4EFB-9807-E157D6B0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EC8-42D2-496C-A434-EE1C36DC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4B9-2669-4580-8194-84ACABB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3CF-E994-4C80-AB4E-B8A5636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717-5A7E-401F-B93E-6D76DDD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C92-269D-4DE3-B663-2CF9FCFDB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osusurvey09.wordpress.com&amp;url=http%3A%2F%2F95820daa-a0c5-4ec1-b66b-5d8f11bbc11b%2Fapplication.pdf&amp;sref=http%3A%2F%2Fosusurvey09.wordpress.com%2F2009%2F12%2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hillipscollection.org/migration_series/flash/experience.cf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Art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town Negroes were leaving by the Hundreds to go North and enter into Northern industry.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From every southern town migrants left by hundreds to travel n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ryp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grants moved to Pittsburgh, which was a great industrial center at the time."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e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37, Many migrants found work in the stee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571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semer Process for St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52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31…in the North, there was improved housing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lem City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gl352.pbworks.com/f/HarlemRenstreetscen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07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59, In the North they had the freedom to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63244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3441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49…They found discrimination in the North. It was a differen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chris32.files.wordpress.com/2009/11/discrimin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298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eat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-called “Second Great Migration” took place during World War II (194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frican-Americans moved North to find war industry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so moved westward to places like California for war-related industrial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illipscollection.org/migration_series/flash/experience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Migr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Migration took place during World War I (approx 1917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African-Americans moved from their homes in the South to new hom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ur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sons would African-Americans have to leave the 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ere did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life like for them in their new h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Migration S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anel No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07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 17, “Tenant farmers received harsh treatment at the hands of plant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1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croppers in Ala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ofalabam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nant farmers in Eutaw County hoe their cotton fields in July 1936. The image was "/>
          <p:cNvPicPr/>
          <p:nvPr/>
        </p:nvPicPr>
        <p:blipFill>
          <a:blip r:embed="rId1"/>
          <a:stretch/>
        </p:blipFill>
        <p:spPr>
          <a:xfrm>
            <a:off x="1752480" y="1523880"/>
            <a:ext cx="5330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 25, They left their homes.  Soon some communities were left almost emp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lipscollection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34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cropper’s House, North Caroli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whistonspirn.com, Dorothy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5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were lynchi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knowledgenew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Jacob Lawrence (American, 1917-2000) - The Migration Series (1940-41) - Panel no.15 - 'There were lynchings.' (title and text revised by the artist, 1993) - Casein tempera on hardboard - 12 x 18 in. The Phillips Collection, D.C., acquired 1942"/>
          <p:cNvPicPr/>
          <p:nvPr/>
        </p:nvPicPr>
        <p:blipFill>
          <a:blip r:embed="rId1"/>
          <a:stretch/>
        </p:blipFill>
        <p:spPr>
          <a:xfrm>
            <a:off x="1066680" y="1143000"/>
            <a:ext cx="66675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2:23:22Z</dcterms:created>
  <dc:creator>ACPS</dc:creator>
  <dc:description/>
  <dc:language>en-US</dc:language>
  <cp:lastModifiedBy>ACPS</cp:lastModifiedBy>
  <dcterms:modified xsi:type="dcterms:W3CDTF">2010-07-17T17:42:14Z</dcterms:modified>
  <cp:revision>19</cp:revision>
  <dc:subject/>
  <dc:title>The Great Migration</dc:title>
</cp:coreProperties>
</file>